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9FB-9774-4008-8907-2A290F21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FDA-DAE2-42EC-9637-44BAFF54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6D5-A826-4206-B002-E0F6E0D4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266-114D-4FE5-910A-AF6AAC1A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FEC-1301-4914-BA49-18005AD0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3DA-95AD-4AE6-B0C7-475306C9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1E8-D4CE-42F1-AA51-2B7CF8E8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F3E-A335-4DEF-B663-6157545F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328-35B1-4F85-BCBA-AC14CEE4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BC5-C80A-4235-B871-624161E9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3B4-23FF-4468-AB6A-ECC93E6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690-FC25-469D-A9DC-B8514246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3AE6-08F1-4E8E-ACD2-43A614CC8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7800" y="228600"/>
            <a:ext cx="29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"/>
              </a:rPr>
              <a:t>LIGHT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4320" y="1219320"/>
            <a:ext cx="77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gh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lification b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ulat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s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7320" y="2314440"/>
            <a:ext cx="82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u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u"/>
              </a:rPr>
              <a:t>LASER</a:t>
            </a:r>
            <a:r>
              <a:rPr b="0" lang="de-DE" sz="2400" spc="-1" strike="noStrike">
                <a:solidFill>
                  <a:srgbClr val="000000"/>
                </a:solidFill>
                <a:latin typeface="Courier Neu"/>
              </a:rPr>
              <a:t> is a device that creates and amplifies a narro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u"/>
              </a:rPr>
              <a:t>intense beam of </a:t>
            </a:r>
            <a:r>
              <a:rPr b="0" lang="de-DE" sz="2400" spc="-1" strike="noStrike">
                <a:solidFill>
                  <a:srgbClr val="ff0000"/>
                </a:solidFill>
                <a:latin typeface="Courier Neu"/>
              </a:rPr>
              <a:t>coherent </a:t>
            </a:r>
            <a:r>
              <a:rPr b="0" lang="de-DE" sz="2400" spc="-1" strike="noStrike">
                <a:solidFill>
                  <a:srgbClr val="000000"/>
                </a:solidFill>
                <a:latin typeface="Courier Neu"/>
              </a:rPr>
              <a:t>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3200400"/>
            <a:ext cx="7115400" cy="242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3124080"/>
            <a:ext cx="6477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racteristics of Laser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her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Different parts of the laser beam are related to each other in ph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onochromat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Laser light consists of essentially one wavelength, having its origin in stimulated emission from one set of atomic energy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llim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ser beams are very narrow and do not spread very mu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838080"/>
            <a:ext cx="83059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9360" y="30492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orption and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7458120" cy="215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5784840" cy="2203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6840" y="342900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mulated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914400"/>
            <a:ext cx="838224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055520"/>
            <a:ext cx="6851880" cy="237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7400" y="38088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pulation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429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acteristics of Laser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962520"/>
            <a:ext cx="7239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oher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Different parts of the laser beam are related to each other in p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onochromat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Laser light consists of essentially one wavelength, having its origin in stimulated emission from one set of atomic energ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ollima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ser beams are very narrow and do not spread very mu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4:29:51Z</dcterms:created>
  <dc:creator>SOCSD</dc:creator>
  <dc:description/>
  <dc:language>en-US</dc:language>
  <cp:lastModifiedBy>SOCSD</cp:lastModifiedBy>
  <dcterms:modified xsi:type="dcterms:W3CDTF">2009-05-08T16:01:41Z</dcterms:modified>
  <cp:revision>2</cp:revision>
  <dc:subject/>
  <dc:title>Slide 1</dc:title>
</cp:coreProperties>
</file>